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FBD-BB43-4F3D-9332-78372FAC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E50-ACB3-4EDC-8F6F-727B89D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37A-0AB3-4833-894C-EA526761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C88-9CE3-4A3A-9959-688BE0CB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BB81-E1CF-4A73-A474-C0D259FB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ED13-9C42-446D-9EC7-23D40DA3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8EA4-1C2E-4BC6-ABF6-2C23B4DC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C5DC-867B-49AB-86AD-EED953E0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9CB7-B3B2-4CD2-AF43-2E4C97C4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BE30-76CB-482D-9024-7AE176CF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375B-84CF-41AE-BFAD-0E320C7E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B5C7-D9AD-4758-9310-DED4B4A3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6262-B7DD-4259-B1B1-D9CE9008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4A81-41EB-48C1-9288-953BA3A6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8B90-3278-418E-B0EB-CE37AB9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E271-6AE2-4689-888C-1FFCA777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AED5-F1FC-4758-8F81-0B9B54DB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743-DEC1-430D-B059-AD6BC89C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968-5588-4459-8BE1-8914FB33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47F-FC0E-4253-A9E0-DA915732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7B6-A28B-4C9C-9F60-B09B115E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C61-582C-4A3B-A486-75780645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2CA-F6FE-46E8-B855-4F111419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4A0-041B-493C-A1DB-5153659B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E77D-F93B-4FE8-A07C-D460A9FFAB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B131-E8A8-4E99-B8B0-A9B47B0D54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mic Sans MS"/>
              </a:rPr>
              <a:t>Historia de las empresas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320920"/>
            <a:ext cx="770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3280" y="3933720"/>
            <a:ext cx="4238640" cy="2708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743280" cy="2165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581200" cy="2708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364000" y="1268280"/>
            <a:ext cx="2737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mic Sans MS"/>
              </a:rPr>
              <a:t>Expansión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810240" cy="4552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00720" y="134136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00720" y="4076640"/>
            <a:ext cx="42480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Impacto internacional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356000" cy="4190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Críticas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284720" cy="3000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111640" y="1341360"/>
            <a:ext cx="403236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8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ervicios que ofrece el Facebook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3419640" cy="3326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851280" y="2421000"/>
            <a:ext cx="4716360" cy="443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79280" y="3567240"/>
            <a:ext cx="33480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Facebook en la actualidad, en números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66ff"/>
                </a:solidFill>
                <a:latin typeface="Arial"/>
              </a:rPr>
              <a:t>Como crear una cuenta de facebook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124000" y="2492280"/>
          <a:ext cx="398772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492280"/>
                    <a:ext cx="39877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5:56Z</dcterms:created>
  <dc:creator>WinSP3_PRO</dc:creator>
  <dc:description/>
  <dc:language>en-US</dc:language>
  <cp:lastModifiedBy>Proyecto Medusa</cp:lastModifiedBy>
  <dcterms:modified xsi:type="dcterms:W3CDTF">2009-12-03T13:25:07Z</dcterms:modified>
  <cp:revision>3</cp:revision>
  <dc:subject/>
  <dc:title>Diapositiva 1</dc:title>
</cp:coreProperties>
</file>